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16E5-34D0-4E22-885B-8DD60AB84B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C0FA-F851-4994-AE22-DF84F544C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F031-1019-4563-ADEE-14702A054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15FD-8711-402F-8B49-CB4B82DD6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5B3A-94A4-4D35-837C-BFE983F5C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D897-B597-483A-8FB7-24A9AE517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7522-778E-43FE-985C-0C2FD1419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8B0B-554E-412F-ACC7-40617ABCE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8F4D-6E2C-4269-BA6B-4E4F434AE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3D26-CF26-4A3E-9020-ED01C408E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1AE0-0794-4536-9D48-CBCEC02B0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AB09-A802-4D07-97FF-A04E83979D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864F-53DD-443D-9DE7-D85F4555E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05B9-0D7F-4D93-95CD-5632B6A82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5A8F-3B61-47C1-A651-B13F46C6A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F217-2708-4BD5-928C-0E2E48380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5BC7-4DB6-4BF0-82B2-6B54B0E3D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C3FB-4BEE-4D2D-A3FA-1C76272AF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B55-BB90-4554-ACE5-B616B589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230-3BE8-4CAC-8E0B-34697E60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696-0EB5-4C38-BEDC-54F976D4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1D0-9EAA-406A-8187-88F2775E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C1D0-2D9A-47EB-8601-96B4FBDD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0116-2020-4D7A-BAD7-8348C034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3D9-9F7E-42F9-87C7-6BB23344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8452-7DC1-499F-97E3-3D01AF99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58ED-5AEA-4290-A83E-8CF953C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B8C7-88D7-44BA-94C7-CA9A5F89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967D-E6CB-4C63-A9DA-32A6F8A0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E2A-AACD-4820-97FB-036EDD67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2DE0-FE32-4654-AAFF-9637C18E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3D44-769F-4A46-BEBE-720D087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5713-049F-4B7C-B6CD-1CA5E0B7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9341-8427-47D0-8337-04DDCB6A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A9AA-3839-4378-BE7A-B83AAD8F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A2C0-9374-4357-A354-A717F59B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0AD8-CCD7-4CD1-8F64-7E36600B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9A43-37AC-41C4-9EF3-1247886D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F89D-1AB5-4289-8FA2-DE7A1045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9108-FD55-4CFB-BB4D-C0AC121C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38E-7EA8-4F88-98E4-B43A219D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5C2F-F292-4D66-96D2-EFB4D8A7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3C4C-D77E-4987-98A2-3AE3A73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B0BC-96CD-4772-BF89-762DE58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CD0E-90B0-4223-84DB-43DCF6E4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5EBFA-9D65-46A8-BF5F-9295074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F780-4D40-4336-B150-93439BC1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045B-9066-490C-B528-F09B6E1B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59DD9-643D-4783-AABB-A7A56D68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5308-1995-42EE-8CC7-79E8F88F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436BC-29ED-4A9E-B4EB-078C02DF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C85-0DF3-416F-8DFB-B9EA90FC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E5C72-FC51-460E-BAB7-01C297D6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EA0D-9F82-438E-AF39-7BDAA043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0612-C957-484F-8864-EDE0B0E3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38C2C-DECC-41C8-B557-0C3F4C38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30F9-3751-432F-8158-5D4DCD2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AB36-4332-491F-8F32-29B59C90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37219-4FB7-4EB1-B907-A7712610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9F29-6B32-43ED-A506-456F9926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11DD-A918-4979-A1A1-C830DCD4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168B3-2ADC-4CAA-9D90-D9D17E17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1D2-B52D-4274-B81C-CE37E43C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8A3EF-7C65-4E79-A817-E3D60B20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15E71-0361-460C-8F5B-B1191228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19F60-FAED-45F0-9479-EFF18A48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C37FA-A91C-4F1E-A094-5F4E8670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F9871-A7AA-4A3F-8781-647E71F8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24EE-A54E-45E2-9808-23A79D38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4FB3E-6074-4B47-9618-1D919631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ADD1B-F643-4309-903D-7CB86206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A5F5A-2F1B-472D-B1F2-78E8B562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DC612-5DBA-4161-B3EC-015492F6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4F2-C076-421D-8D3C-171E33C6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7B5E6-5191-4644-B54C-6311ACC9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4AF-0852-4AE5-96D2-676DD020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F93-9703-4C40-9383-DA4CC379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E87-8383-41B3-92F5-C9F97297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6C55-87C3-4C76-9E9E-3DC9E19BE37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2528-1ABD-418D-9173-AEA60152B1B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7F83-AA5F-4CD5-8344-72B7D534745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835F-B117-4612-B51C-56F89D79B2D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9FB4-2951-4126-AF5B-B8DB6CF1F4F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3840" cy="18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0c226"/>
                </a:solidFill>
                <a:latin typeface="Trebuchet MS"/>
              </a:rPr>
              <a:t>СИСТЕМЫ УПРАВЛЕНИЯ БАЗАМИ ДАННЫХ</a:t>
            </a:r>
            <a:br>
              <a:rPr sz="2400"/>
            </a:br>
            <a:r>
              <a:rPr b="1" lang="ru-RU" sz="24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476000" y="4437000"/>
            <a:ext cx="6800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8120"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450E-5361-4F12-9057-CADF47548AD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вязи между объектами в базах данных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E029-B584-49DE-BEFA-73D2E764DC4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79280" y="1197000"/>
            <a:ext cx="8785440" cy="51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объектами могут возникать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ежду объектами деталь и поставщик может возникнуть связь –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ь поставляется поставщиком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каждого экземпляра поставщика ставится в соответствие список деталей, которые он поставляет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отношением, т.е. подмножеством прямого произведения, но не обязательно это бинарное отношение (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щик – детал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ношение) связывающая экземпляры одного и того же типа объектов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ежду экземплярами объекта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аль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уществовать связь –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деталей, образующих данную детал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Виды связей между объектами в базах данных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F6E5-6D81-4742-BC5E-737D917E187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79280" y="1197000"/>
            <a:ext cx="878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римере базы данных «Хирургическое отделение больницы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ты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(класса) объек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г , Пациент, Палата, Место_в_пала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т возникать следующи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к одном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- Место_в_палате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к многи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, как вариант - многие к одном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ата - Место_в_палат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 многи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- Хирур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т иметь имена, например, 1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2800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иаграммы объектов / связей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1196640"/>
            <a:ext cx="8229600" cy="48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грамм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графическое изображение структуры БД с использованием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R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модели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ъек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яз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трибу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6F71-A164-49CB-BEF5-5E2B96E620D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40959"/>
          <p:cNvSpPr/>
          <p:nvPr/>
        </p:nvSpPr>
        <p:spPr>
          <a:xfrm>
            <a:off x="684360" y="2063880"/>
            <a:ext cx="1728720" cy="9349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Ромб 3"/>
          <p:cNvSpPr/>
          <p:nvPr/>
        </p:nvSpPr>
        <p:spPr>
          <a:xfrm>
            <a:off x="900000" y="3389400"/>
            <a:ext cx="1295640" cy="1079280"/>
          </a:xfrm>
          <a:prstGeom prst="diamond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4"/>
          <p:cNvSpPr/>
          <p:nvPr/>
        </p:nvSpPr>
        <p:spPr>
          <a:xfrm>
            <a:off x="900000" y="4941720"/>
            <a:ext cx="1295640" cy="687600"/>
          </a:xfrm>
          <a:prstGeom prst="ellipse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аграмма БД «Аэропор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8000" y="1600200"/>
            <a:ext cx="22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вяз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-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ассажир купил  биле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-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полняетс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-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ес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-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пущен 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-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ип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-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значен 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2" name="Объект 7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6769080" cy="3828960"/>
          </a:xfrm>
          <a:prstGeom prst="rect">
            <a:avLst/>
          </a:prstGeom>
          <a:ln w="0">
            <a:noFill/>
          </a:ln>
        </p:spPr>
      </p:pic>
      <p:sp>
        <p:nvSpPr>
          <p:cNvPr id="313" name="Номер слайда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3DBA-6ADF-4937-BE32-5A66BD62086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7280" y="18864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Концептуальная схема и её модели данных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9FBF-B34A-47FE-8692-AA4F864B1FE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24000" y="112536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ой схе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центральным пунктом в разработке баз данных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ые схе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т существенное влияние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собы опис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хем уровня представлений и физических сх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базы данных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ом уров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Д предоставляет так называе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зык определения дан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L data definition languag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язык позволяет запис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ую схе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инах некоторой модели да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модели данных может  быть выбрана, например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объектов/отношений. Основными понятиями этой модели являются понят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Д аэропорта является фактичес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ой схем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Д в термина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одели концептуальных схем. Иерархическая модель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F009-8270-4BDC-BBF4-DFD5FA2ECBE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24000" y="134136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ой моделью данных здесь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овидный гра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связанный, ориентированный граф без циклов, у которого имеется только одна вершина, из которой дуги только выходят и ни одна дуга не входит. Эта вершина называется корнем дер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а, в которую дуги только входят, называется лист. Все остальные вершины - кор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а для некоторой вершины А называется родительской, если из родительской вершины начинается дуга и заканчивается в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ья это множество вершин имеющих одного род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концептуальных схем. Иерархическая модель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518F-E24E-4BA1-856E-109990D9BC7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24000" y="134136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представителем СУБД, в которой реализована иерархическая модель, является СУБ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MANGMENT SYSTE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ир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ередина 60-х г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СУБД официально считается вообще первой реализованной СУБ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этого типа СУБД объясняется простотой и наглядностью используемой модели, которая широко распространена в различных областях деятельности человека и в природе (государство, армия, предприятия, стая и т.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ом этой СУБД является сложность реализация связей n:n (многие к мног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концептуальных схем. Сетевая модель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2D99-199F-44C4-B256-85E0C75DE84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24000" y="134136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ой моделью являются  ориентированные графы, вершинами которых является множество однородных объектов, а дугами – ассоциации (связ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/отнош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примером сетев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основы модели разработаны независимой ассоциаци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стов CODASYL, как обобщение иерархической модели и опыта эксплуатации информацион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СУБД  сетевой структуры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M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мпа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Associates International In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в СССР – ИНЕ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концептуальных схем. Реляционная модель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3216-FC9E-49D9-BA85-21690A54BC7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24000" y="134136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ая модель базируется на теоретико – множественном понятии отношения.  Используется аппарат математической логики и расширение теории множ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разработана американским математиком Коддом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отрудником фирмы IBM, и опубликована в 1970 г. В настоящее время  является наиболее полно разработанной основой теории Б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реляционных СУБД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порация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фир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BA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а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base In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ляционным относятся свободно распространяемые СУБД — MySQL, PostgreSQ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i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Д, использующие не реляционные модел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231F-A933-49E7-884B-73155C5DD4C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24000" y="134136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Д, опирающиеся на другие моде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Б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B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й используются так называем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тирован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йлы (инвертированные спис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еляционные СУБ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ктивные СУБ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ые СУ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емые СУБ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но-ориентированные СУБ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антические СУБ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е реляционные СУБ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мерные СУБ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Q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561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Основные определения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7E00-4B6B-4AB8-B902-9D232E7D457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50920" y="907920"/>
            <a:ext cx="849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чень типов объектов, относящихся к БД и связей между ними. Иногда план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стадии проектирования БД разработчики имеют дело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Д. На стадии  эксплуатации пользователи имеют дело с содержащимися в базе данны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ыми дан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анные в БД при эксплуатации часто изменяются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няются значительно ре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3-х уровневой моделью вводят понят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сх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 уровн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ычно являются частями (подсхемами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ой сх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емпля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Д – это совокупность информации, содержащейся в БД в каждый момент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79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сновные определ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CDA0-DD68-4554-BBBE-52472380981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08000" y="1052640"/>
            <a:ext cx="885672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исания схем и экземпляров используют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мое пол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наименьшая единица хранимых данных. БД может содержать много экземпляров одного из нескольких типов полей (ФИО, №Дета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мая запис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набор связанных хранимых полей, рассматриваемых как одно  целое. Экземпляр записи состоит из группы связанных  экземпляров хранимых п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ь о дета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, название, вес, цв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мый фай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набор записей всех экземпляров хранимых записей одного типа (предполагаем, что в файле хранятся записи только одного ти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хемы уровня представлений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0F11-011A-4F91-A7FC-14C05E8B270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24000" y="1197000"/>
            <a:ext cx="849600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т быть частям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ой сх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некоторых случаях схемы представления могут быть более “абстрактными” чем концептуаль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ля отдела кадров поддержи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е включае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сотрудника. Поддерживать возраст на концептуальном уровне не целесообразно, т.к. изменять соответствующее хранимое поле необходимо ежедневно для всех сотрудников. Целесообразно хранит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у рожд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возраст вычислять как разность межд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й дат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ой рожд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хемы уровня представлений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1A94-E1E7-440F-891D-7AF1FC96E4B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78000" y="981000"/>
            <a:ext cx="849600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луче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 представлени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используют различные подмножества из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ой сх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ключе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уров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ая сх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БД авиарейсы могут рассматриваться как множество  пассажиров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уров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в представлении службы продажи билетов пассажир может рассматриваться как некоторое множество рейсов, на которые у пассажира есть билеты. Т.е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ая сх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сем не обязательно должны определяться с помощью одной и той же модел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одели типа объект/отношение. ( ER-модель)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63A3-9169-4370-AFDB-0EE60879617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31920" y="1052640"/>
            <a:ext cx="849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БД типа объект/отнош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-связь) могут быть использованы на всех уровнях абстр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дели является тесна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редметной областью. Данная модель относится к так называемы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антическим (содержательным) модел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ще описывать условия целост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ложно проводить формальную оптимизацию информационной модели, т.к. тесная логическая связь с предметной областью не дает разработчику отвлечься от ее особе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одели типа объект/отношение. ( ER-модель)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EF81-0F71-4C1C-9435-A4734666C03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24000" y="1197000"/>
            <a:ext cx="849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писать представление предметной области с помощь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необходимо задат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объектов реального ми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емантическое понятие, которое может быть полезно при обсуждении устройств реального мира. Нечто существенное, полезное для описания предметной обл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щность реального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 обязательно материальными понятия. Важным является только существенность и различимость каждого объекта от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трудник, пассажир, самолет, деталь, счет в банке и т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одели типа объект/отношение. ( ER-модель)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F976-B984-4C81-9991-49D35ECCB62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324000" y="1197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а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емпля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трудник;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емпля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ва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дает рядо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иногда н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к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рибута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рибу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формационной модели объект представляется значениями своих атрибу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ов объекта является его информационной моде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отрудник, ег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ИО, 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одели типа объект/отношение. ( ER-модель)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35B4-629F-4CCD-B3C8-486E24B0A17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4000" y="1052640"/>
            <a:ext cx="849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ы или множество атрибутов значения, которых уникальным образом идентифицируют экземпляр объекта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о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уществуе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 различных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ов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торых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падаю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ючей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к. все экземпляры объекта в реальной жизни различимы, должны быть различимы и экземпляры одного типа объектов. Тогда, любые два экземпляра объектов одного и того же типа должны  различаться значениями хотя бы одного атрибута. Следовательно, каждый тип объекта должен иметь клю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кт студент, ключ – номер зачетной кни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6:42:28Z</dcterms:created>
  <dc:creator>hung</dc:creator>
  <dc:description/>
  <dc:language>en-US</dc:language>
  <cp:lastModifiedBy>Ольга Захарова</cp:lastModifiedBy>
  <dcterms:modified xsi:type="dcterms:W3CDTF">2021-04-01T09:23:04Z</dcterms:modified>
  <cp:revision>415</cp:revision>
  <dc:subject/>
  <dc:title>Слайд 1</dc:title>
</cp:coreProperties>
</file>